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7AE0B-7BD4-4A31-A944-0B5F38E7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5F4CC-0B85-4810-83A4-C8038576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03DEB-B3B1-4EFC-AECA-B682F3C2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DA121-A1AB-4C1E-B58B-A83035BE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2866-D30D-40F9-824A-C75BD5FB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DC8C-FE51-4287-B64F-ED0E7A59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5D81-3F86-44AB-A4F9-4BE1B971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9420-9E20-4CEE-B3E2-CD056FC2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FD62-33FA-47BF-ACDF-E6E59D38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8DB2-FBBA-4BFA-9A98-9AB28214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6667-AD53-4B0C-AFC9-0A97D71D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53D96-4057-4649-AD5E-CEED109B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3BBD-829D-45B9-9FBE-5DC02A11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2456-E3A3-4BA4-8961-E61AD334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B393-567D-4AFD-9977-6AD66E33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67BA-D309-4BCF-A5A6-9BED2C1D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5F6B-02B0-47D0-82D8-AF945C97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B65C8-B6B5-46BE-9FEC-AB014134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ED1B1-CB5F-4318-8E86-734699CA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DF220-DDBD-43FA-9156-17E52F8D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6BACC-D5A3-4093-8F52-6B0AE200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EC90C-D4B6-484B-A0BE-6DC063BD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8E323-0770-48B0-9FA9-957FED42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FD5D7-B43A-480C-8A14-657B4335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A4CE-DE58-44B1-BB8B-672AD957BCC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9635-C06D-40D8-89C8-B918E80A539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557000"/>
            <a:ext cx="60199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EMA 5: LA COORDINACIÓN DE NUESTRO ORGANIS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94920" y="4266720"/>
            <a:ext cx="8596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7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 u="sng">
                <a:solidFill>
                  <a:srgbClr val="000000"/>
                </a:solidFill>
                <a:uFillTx/>
                <a:latin typeface="Arial"/>
              </a:rPr>
              <a:t>ÍNDIC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LA COORDINACIÓN NERVIOS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SISTEMA NERVIOSO CENT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EL SISTEMA NERVIOSO PERIFÉR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LA NEURONA: UNIDAD DEL SISTEMA NERVIOS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ALTERACIONES EN EL SISTEMA NERVIOS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INFLUENCIA DEL MEDIO EN LA SALUD MENT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LA COORDINACIÓN HORMO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EL EQUILIBRIO HORMO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LAS DROGAS DAÑAN LA SALU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6. INFLUENCIA DEL MEDIO EN LA SALUD MEN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072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ublicidad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forma y persuade imponiendo modas y hábitos de vida creando nuevas neces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ratamient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ctitud crítica e inteligente, fuerte person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sión del grupo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mpañeros influyen en nuestras decisiones sin darnos cu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ratamient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ctitud crítica e inteligente, fuerte personalidad, confianza en sí mi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strés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tado de permanente angustia y ansiedad provocado por situaciones o cambios que afectan a nuestra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ratamien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vitar o reducir las causas de estrés, dormir, ejercicio físico, ejercicios de relajación, alimentación equilibrada, evitar tranquilizantes, droga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96472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7. LA COORDINACIÓN HORM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istema endocrino u hormonal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tá formado por el conjunto de glándulas que segregan hormonas en la sang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ándula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órganos formados por células especializadas en fabricar y segregar sustancias. Se clasific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Endocrinas (hipófisis, tiroides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fabrican horm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que vierten a la sang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Exocrinas (sudoríparas, salivales, hígado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que vierten sus secreciones al exterior 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rganismo o al tubo digestivo. No forman par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l sistema endocr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Mixtas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producen hormonas y otras sustanc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as hormon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son mensajeros químicos de naturaleza lipídica o proteica que (transportados por la sangre) regulan determinadas funciones. S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racterizan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</a:t>
            </a: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específic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ólo actúan sobre su célula di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</a:t>
            </a: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muy eficac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se necesitan pocas cant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 </a:t>
            </a: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produ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tá </a:t>
            </a: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controlad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exceso o déficit = enfermeda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sm_0154"/>
          <p:cNvPicPr/>
          <p:nvPr/>
        </p:nvPicPr>
        <p:blipFill>
          <a:blip r:embed="rId1"/>
          <a:stretch/>
        </p:blipFill>
        <p:spPr>
          <a:xfrm>
            <a:off x="6227640" y="2205000"/>
            <a:ext cx="26272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jemplo: “control de azúcar en sang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antidad de glucosa en sangre está controlada por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os hormonas segregadas por el páncre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sulin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7d"/>
                </a:solidFill>
                <a:latin typeface="Arial"/>
              </a:rPr>
              <a:t>↓ glucos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sang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ucagón</a:t>
            </a:r>
            <a:r>
              <a:rPr b="0" lang="es-ES" sz="1600" spc="-1" strike="noStrike">
                <a:solidFill>
                  <a:srgbClr val="00007d"/>
                </a:solidFill>
                <a:latin typeface="Arial"/>
              </a:rPr>
              <a:t>: ↑ glucos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sang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ntrol de glucos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as la digestión la sangre está cargada de glucosa. Ésta atraviesa el páncreas y estimula la secreción d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sul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insulina lleva la glucosa a determinados órganos, l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macen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forma de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glucógeno en el hígado y múscul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o transforma el exceso de glucosa en grasa (tejido adipos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ando el nivel de glucosa en sangre es bajo, el páncreas produc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ucag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que estimula la liberación de glucosa desde el hígado y múscu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control-glucosa"/>
          <p:cNvPicPr/>
          <p:nvPr/>
        </p:nvPicPr>
        <p:blipFill>
          <a:blip r:embed="rId1"/>
          <a:stretch/>
        </p:blipFill>
        <p:spPr>
          <a:xfrm>
            <a:off x="1476360" y="3832200"/>
            <a:ext cx="65516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8. EL EQUILIBRIO HORM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6913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ipófisi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una pequeña glándula situada e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ase del cerebro que controla el funcionamient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actividad hormonal y otras glándu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Mecanismo de ac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hipófisis fabrica hormonas trópicas que vierte a la sang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monas trópic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imulan la secreción de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mo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uando llega a la glánd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umento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xcesivo de la hormona en sangre inhibe a la hipófis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cesa la producción de hormonas tróp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alta de hormonas trópic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hibe a su vez la producción de la hormona por la glánd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lteraciones en el equilibrio horm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teraciones en el crecimiento (hormona del crecimiento, exceso o defect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teraciones en el metabolismo (hormona tiroidea: exceso produce obesidad, defecto lo contrari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teraciones en el nivel de glucosa (hiperglucemia o hipoglucem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hipo"/>
          <p:cNvPicPr/>
          <p:nvPr/>
        </p:nvPicPr>
        <p:blipFill>
          <a:blip r:embed="rId1"/>
          <a:stretch/>
        </p:blipFill>
        <p:spPr>
          <a:xfrm>
            <a:off x="6659640" y="1197000"/>
            <a:ext cx="22572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456840"/>
            <a:ext cx="896472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9. LAS DROGAS DAÑAN LA SAL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drogas son sustancia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óxic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producen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epend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generan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olera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ipos de drog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epresor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barbitúricos, tranquilizantes, alcohol) sedan al S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Narcótic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opio, morfina, heroína) mitigan el dolor y producen sueño y estup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stimulant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cocaína, nicotina, anfetaminas, éxtasis) estimulan el SNC y crean sensación de euf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lucinógen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LDS, derivados del cannabis) producen alucinaciones, depresiones, enfermedades mentales, alteraciones de la person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cerebro_drogas"/>
          <p:cNvPicPr/>
          <p:nvPr/>
        </p:nvPicPr>
        <p:blipFill>
          <a:blip r:embed="rId1"/>
          <a:stretch/>
        </p:blipFill>
        <p:spPr>
          <a:xfrm>
            <a:off x="1547640" y="4076640"/>
            <a:ext cx="6409080" cy="263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339408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ESUM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mapa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54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ESUM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mapa3"/>
          <p:cNvPicPr/>
          <p:nvPr/>
        </p:nvPicPr>
        <p:blipFill>
          <a:blip r:embed="rId1"/>
          <a:stretch/>
        </p:blipFill>
        <p:spPr>
          <a:xfrm>
            <a:off x="179280" y="1773360"/>
            <a:ext cx="8604360" cy="396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1. LA COORDINACIÓN NERVIO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funcionamiento de los diferentes órganos y sistemas están coordinados por 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stema nervios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movilización de recursos energéticos están regulados por 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stema horm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rganización del sistema nervios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istema nervioso centr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Encéfalo y médula esp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cibe y procesa información para coordinar las funciones corpo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istema nervioso periféric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Nervios;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conectan el sistema nervioso central con el resto de órganos del cuer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mite la información al sistema nervioso central y conduce las órdenes a los órganos que las ejecut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2. SISTEMA NERVIOSO CENT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 forman el encéfalo y la médula espinal que están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otegidos po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s envolturas membranosas (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ning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estructura ós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ráne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l encéf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értebr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a méd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imagen555"/>
          <p:cNvPicPr/>
          <p:nvPr/>
        </p:nvPicPr>
        <p:blipFill>
          <a:blip r:embed="rId1"/>
          <a:stretch/>
        </p:blipFill>
        <p:spPr>
          <a:xfrm>
            <a:off x="5292720" y="3933720"/>
            <a:ext cx="3211560" cy="2924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snc"/>
          <p:cNvPicPr/>
          <p:nvPr/>
        </p:nvPicPr>
        <p:blipFill>
          <a:blip r:embed="rId2"/>
          <a:stretch/>
        </p:blipFill>
        <p:spPr>
          <a:xfrm>
            <a:off x="684360" y="4005360"/>
            <a:ext cx="414972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915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structura del SN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ncéfal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 form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erebr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dividido en dos hemisferios con circunvoluciones y sur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part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ás externa (corteza cerebral) está formada por </a:t>
            </a:r>
            <a:r>
              <a:rPr b="1" lang="es-ES" sz="1600" spc="-1" strike="noStrike">
                <a:solidFill>
                  <a:srgbClr val="00007d"/>
                </a:solidFill>
                <a:latin typeface="Arial"/>
              </a:rPr>
              <a:t>sustancia gris</a:t>
            </a:r>
            <a:r>
              <a:rPr b="0" lang="es-ES" sz="1600" spc="-1" strike="noStrike">
                <a:solidFill>
                  <a:srgbClr val="00007d"/>
                </a:solidFill>
                <a:latin typeface="Arial"/>
              </a:rPr>
              <a:t>.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cibe información y elabora respuest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part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ás interna tiene </a:t>
            </a:r>
            <a:r>
              <a:rPr b="1" lang="es-ES" sz="1600" spc="-1" strike="noStrike">
                <a:solidFill>
                  <a:srgbClr val="00007d"/>
                </a:solidFill>
                <a:latin typeface="Arial"/>
              </a:rPr>
              <a:t>sustancia blanca</a:t>
            </a:r>
            <a:r>
              <a:rPr b="0" lang="es-ES" sz="16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erebel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debajo del cerebro. Se divide en dos hemisferios con circunvoluciones. Coordina movimientos y permite mantener el equilib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Bulbo raquíde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nlaza el encéfalo con la parte superior de la médula espinal. Controla de forma automática importantes funciones corporales (circulación de la sangre, respiración, tubo digestiv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Médula espin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vía nerviosa a través de la cual ascienden mensajes al encéfalo y descienden las órdenes a los órganos. De ella parten 31 pares de nervios raquídeos. Gobierna movimientos refle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art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ás externa se compone de </a:t>
            </a:r>
            <a:r>
              <a:rPr b="1" lang="es-ES" sz="1800" spc="-1" strike="noStrike">
                <a:solidFill>
                  <a:srgbClr val="00007d"/>
                </a:solidFill>
                <a:latin typeface="Arial"/>
              </a:rPr>
              <a:t>sustancia blan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art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ás interna de </a:t>
            </a:r>
            <a:r>
              <a:rPr b="1" lang="es-ES" sz="1800" spc="-1" strike="noStrike">
                <a:solidFill>
                  <a:srgbClr val="00007d"/>
                </a:solidFill>
                <a:latin typeface="Arial"/>
              </a:rPr>
              <a:t>sustancia gris</a:t>
            </a: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3. SISTEMA NERVIOSO PERIFÉ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NP formado por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nervi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ectan el sistema nervioso central con todos los órganos del cuerp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Nervios crane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alen del encéfa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Nervios raquíde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alen de la méd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pos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ervios según su fun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Nervios sensitiv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ransportan información desde los órganos de los sentidos y las vísceras al S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Nervios moto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ransportan las órdenes desde el SNC a los músculos y órganos encargados de realizar la respue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autonomo"/>
          <p:cNvPicPr/>
          <p:nvPr/>
        </p:nvPicPr>
        <p:blipFill>
          <a:blip r:embed="rId1"/>
          <a:stretch/>
        </p:blipFill>
        <p:spPr>
          <a:xfrm>
            <a:off x="1116000" y="4005360"/>
            <a:ext cx="3168720" cy="267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Picture 6" descr="t102485-0"/>
          <p:cNvPicPr/>
          <p:nvPr/>
        </p:nvPicPr>
        <p:blipFill>
          <a:blip r:embed="rId2"/>
          <a:stretch/>
        </p:blipFill>
        <p:spPr>
          <a:xfrm>
            <a:off x="5076720" y="4076640"/>
            <a:ext cx="32338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30240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ipos de SN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46087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Sistema nervioso somát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ponsable de act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olunt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ervios que conectan los músculos esqueléticos con el S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724000" y="620280"/>
            <a:ext cx="31021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istema nervioso vegetativo o autóno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gula el funcionamient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volun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rvios que conectan las vísceras con el SNC. Los órganos recib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órdenes antagónic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 través de los nerv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arasimpátic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stimulan a los órganos, para condiciones de aler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impátic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stimulan los órganos para mantener los recur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14"/>
          <p:cNvPicPr/>
          <p:nvPr/>
        </p:nvPicPr>
        <p:blipFill>
          <a:blip r:embed="rId1"/>
          <a:stretch/>
        </p:blipFill>
        <p:spPr>
          <a:xfrm>
            <a:off x="971640" y="4005360"/>
            <a:ext cx="45720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89308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4. LA NEURONA: UNIDAD DEL SISTEMA NERVI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18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Neuronas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élulas especializadas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ervioso que transmiten el impulso nervi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neuronas al estar tan especializadas pierden la capacidad de reproducirse y cuando mueren </a:t>
            </a:r>
            <a:r>
              <a:rPr b="0" i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no pueden sustituirs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neuronab"/>
          <p:cNvPicPr/>
          <p:nvPr/>
        </p:nvPicPr>
        <p:blipFill>
          <a:blip r:embed="rId1"/>
          <a:stretch/>
        </p:blipFill>
        <p:spPr>
          <a:xfrm>
            <a:off x="3059280" y="4425840"/>
            <a:ext cx="324144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Nervio"/>
          <p:cNvPicPr/>
          <p:nvPr/>
        </p:nvPicPr>
        <p:blipFill>
          <a:blip r:embed="rId1"/>
          <a:stretch/>
        </p:blipFill>
        <p:spPr>
          <a:xfrm>
            <a:off x="2843280" y="2349360"/>
            <a:ext cx="2917800" cy="242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Rectangle 5"/>
          <p:cNvSpPr/>
          <p:nvPr/>
        </p:nvSpPr>
        <p:spPr>
          <a:xfrm>
            <a:off x="611280" y="494172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uncionamient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os impulsos nerviosos se propagan por las neuronas como corrientes eléctricas de corta d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impulso → dendritas → cuerpo neuronal → ax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onexión entre neuronas se llam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naps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se hace mediante unas sustancias químicas llamada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neurotransmis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539640" y="476280"/>
            <a:ext cx="842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structur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distinguen dos par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uerpo celular o som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: contiene el núcleo y la mayor parte de citoplas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longacion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son de dos tip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s-ES" sz="1800" spc="-1" strike="noStrike">
                <a:solidFill>
                  <a:srgbClr val="00007d"/>
                </a:solidFill>
                <a:latin typeface="Arial"/>
                <a:ea typeface="Arial"/>
              </a:rPr>
              <a:t>Dendritas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rtas y muy ramificadas. Conectan neuronas entre 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7d"/>
                </a:solidFill>
                <a:latin typeface="Arial"/>
                <a:ea typeface="Arial"/>
              </a:rPr>
              <a:t>- Axón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rga y sólo ramificada en el extremo terminal. Está protegido por mielina. Se agrupan en fibras nerviosas, fascículos y nerv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5. ALTERACIONES DEL SISTEMA NERVI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stornos orgánic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alteracione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ísic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los órganos del S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l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bstrucción (trombo) o rotura (derr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ermedades infecciosas (meningit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ermedades degenerativas (</a:t>
            </a:r>
            <a:r>
              <a:rPr b="0" i="1" lang="es-ES" sz="1800" spc="-1" strike="noStrike">
                <a:solidFill>
                  <a:srgbClr val="00007d"/>
                </a:solidFill>
                <a:latin typeface="Arial"/>
              </a:rPr>
              <a:t>mal de Alzheim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03280" y="1980720"/>
            <a:ext cx="368316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stornos psíquic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son alteraciones en el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uncionamien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l SN y comportami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nsie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epre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relacionan con factores ambientales agres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alzheimer-avanzado"/>
          <p:cNvPicPr/>
          <p:nvPr/>
        </p:nvPicPr>
        <p:blipFill>
          <a:blip r:embed="rId1"/>
          <a:stretch/>
        </p:blipFill>
        <p:spPr>
          <a:xfrm>
            <a:off x="1187280" y="4491000"/>
            <a:ext cx="22957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4:48:01Z</dcterms:created>
  <dc:creator>Meri</dc:creator>
  <dc:description/>
  <dc:language>en-US</dc:language>
  <cp:lastModifiedBy>Centor</cp:lastModifiedBy>
  <dcterms:modified xsi:type="dcterms:W3CDTF">2016-02-07T12:46:58Z</dcterms:modified>
  <cp:revision>33</cp:revision>
  <dc:subject/>
  <dc:title>TEMA 5: LOS SISTEMAS DE COORDINACIÓN</dc:title>
</cp:coreProperties>
</file>